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F112-035B-40C4-A3B8-041CC79A7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071D-3F93-4FE3-A170-1064BF9A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1AB3-EAF8-46F4-994A-A1CF1E16F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78ED-E510-4080-9D1E-304176C36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C054-D7E8-4D2F-A86A-BD726E296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AD6D-5FCF-40A3-AD72-2F06E977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2AF5-6CD7-4F0A-A67F-9DE3D1C9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44B4-B94A-4BDF-A064-9A786D44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43FA-E1EE-4663-8A59-C6F26094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C4D0-07D5-45DC-AACF-8179DCDC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1B65-245C-42F8-8A82-0D05EDC2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71A9-6DBB-4EEF-B5F5-6670F6CE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7D56-23A1-41A0-92BF-8DEB8DA1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1B31-4DB1-4B88-839C-5CBAB5C2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10C4-F661-4984-8EA2-0DA094F2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318A-2FFE-46F9-ABFA-2959DF318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A71B-D904-461D-8B43-FAE045662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33AC-0E68-40D7-B5CB-AF8BADD8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6853-185F-4194-9ED4-B1EFC1A6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085E-BB18-4F42-BB66-D1134B61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2391-9A4E-43BD-A928-E8A4F0A8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D3E1-05F5-4D09-ACE5-2A7B308F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391D-943C-48A6-8DBF-B9D0F796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0B4C-1260-42B2-9A71-4D9A88B1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F13B-4BCA-4B54-A170-09C97F0B1A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7CDC-0DCD-4251-AB41-B89C5E6B50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severns@aisd.net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wikipedia.com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2057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Using Wikis to Promote Your Library Resources and Program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3160" y="3886200"/>
            <a:ext cx="83818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zanne Sever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brarian, James Bowie H.S. – Arlington, T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sseverns@aisd.n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bowielibrary.wikispaces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’s a Wiki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6172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website where people can edit the page by clicking on the edit tab if it is unlocked. These same people may be able to post to a discussion board if it’s offer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Wikipedi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Perhaps the most popular wiki of them all though they’ve locked a lot of pages due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Did she say Wikipedia???</a:t>
            </a:r>
            <a:r>
              <a:rPr b="0" lang="en-US" sz="3200" spc="-1" strike="noStrike">
                <a:solidFill>
                  <a:srgbClr val="ffffff"/>
                </a:solidFill>
                <a:latin typeface="Mistr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14" descr="MP900178843[1]"/>
          <p:cNvPicPr/>
          <p:nvPr/>
        </p:nvPicPr>
        <p:blipFill>
          <a:blip r:embed="rId2"/>
          <a:stretch/>
        </p:blipFill>
        <p:spPr>
          <a:xfrm>
            <a:off x="6095880" y="3809880"/>
            <a:ext cx="20275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ypes of Restric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8960" y="1218960"/>
            <a:ext cx="6476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ost Restricti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Use as a website with no editing or discussion boar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omewhat restricti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Use as a website with discussion board(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Least restricti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Let others join and edit pages or post to discussion boar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MC900441437[1]"/>
          <p:cNvPicPr/>
          <p:nvPr/>
        </p:nvPicPr>
        <p:blipFill>
          <a:blip r:embed="rId1"/>
          <a:stretch/>
        </p:blipFill>
        <p:spPr>
          <a:xfrm>
            <a:off x="7467480" y="228600"/>
            <a:ext cx="1505160" cy="1504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MC900441436[1]"/>
          <p:cNvPicPr/>
          <p:nvPr/>
        </p:nvPicPr>
        <p:blipFill>
          <a:blip r:embed="rId2"/>
          <a:stretch/>
        </p:blipFill>
        <p:spPr>
          <a:xfrm>
            <a:off x="0" y="52578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 Why Bother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kis can be used to provide pages for groups/classes to collaborate and post information they’ve found, ask questions,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soar2newheights.wikispaces.com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inding Web 2.0 tools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o embed in your website or wiki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ttp://web20tools.wetpaint.co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ttp://www.go2web20.net/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e last page of handout, too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37" descr="MC900230425[1]"/>
          <p:cNvPicPr/>
          <p:nvPr/>
        </p:nvPicPr>
        <p:blipFill>
          <a:blip r:embed="rId1"/>
          <a:stretch/>
        </p:blipFill>
        <p:spPr>
          <a:xfrm>
            <a:off x="3886200" y="3722760"/>
            <a:ext cx="2092320" cy="14954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1"/>
          <p:cNvSpPr/>
          <p:nvPr/>
        </p:nvSpPr>
        <p:spPr>
          <a:xfrm>
            <a:off x="152280" y="5334120"/>
            <a:ext cx="899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ware of “Beta”!!! Beta programs sometimes have glitches, disappear, or cost money later 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xamp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://www.shackstacks.wikispaces.co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://bowielibrary.wikispaces.com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://joycevalenzaworkshop.wikispaces.com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9" descr="MC900439356[1]"/>
          <p:cNvPicPr/>
          <p:nvPr/>
        </p:nvPicPr>
        <p:blipFill>
          <a:blip r:embed="rId1"/>
          <a:stretch/>
        </p:blipFill>
        <p:spPr>
          <a:xfrm>
            <a:off x="3352680" y="350532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ediagraph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crosoft. Clipart. 13 June 201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17:56:42Z</dcterms:created>
  <dc:creator>sseverns</dc:creator>
  <dc:description/>
  <dc:language>en-US</dc:language>
  <cp:lastModifiedBy>AISD Employee</cp:lastModifiedBy>
  <dcterms:modified xsi:type="dcterms:W3CDTF">2012-09-18T20:47:16Z</dcterms:modified>
  <cp:revision>38</cp:revision>
  <dc:subject/>
  <dc:title>Using Wiki’s to Promote Your Library Resources and Programs</dc:title>
</cp:coreProperties>
</file>